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F3C-42EA-4358-BC9C-67843E62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3B5-A118-425C-B99D-EC7B49D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53A-3DF2-4AA3-ABE0-864D039C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9CA-4050-4A09-8895-2F2976CC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004-2C50-47D7-8971-0595D79F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E0C-5BF8-4117-A524-1E6F23B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267-195A-47F1-B0A2-9E4CB3BF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CB4-4BD6-4E7B-9B5F-8397F77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E9C-6FF9-4988-B1E0-1818136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6B4-36E9-49CC-B63E-88948B0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FAD-2C23-47D1-AAFF-76A1F89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C5D-CBC9-4859-A4EE-E4D97C6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AB40-C18E-40A3-B6C4-334CCE05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urope’s highest mountain r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untry BROKE the agreement made during the Treaty of Versail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76520"/>
            <a:ext cx="7162560" cy="3581280"/>
          </a:xfrm>
          <a:prstGeom prst="wedgeRectCallout">
            <a:avLst>
              <a:gd name="adj1" fmla="val -21231"/>
              <a:gd name="adj2" fmla="val 6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omic Bombs, Jap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WWII the United States used the worlds first _____________.  Which country were they us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tain and 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wo countries did the Chunnel conn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y were afraid it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it easier to invade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first why did Britian not want to create the Chunn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WWII which country did Germany have an alliance with, but they invaded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86000"/>
            <a:ext cx="6858000" cy="3581280"/>
          </a:xfrm>
          <a:prstGeom prst="wedgeRectCallout">
            <a:avLst>
              <a:gd name="adj1" fmla="val -24398"/>
              <a:gd name="adj2" fmla="val 1897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1747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duke Franz Ferdinand was the ruler or what country?  What effect did his assassination have on WW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8360" y="3124080"/>
            <a:ext cx="723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was ruler of Austria, and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assination began WW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133720"/>
            <a:ext cx="7162920" cy="2971800"/>
          </a:xfrm>
          <a:prstGeom prst="wedgeRectCallout">
            <a:avLst>
              <a:gd name="adj1" fmla="val -21231"/>
              <a:gd name="adj2" fmla="val -27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Kore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ietnam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uban Miss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name ONE war that was a result of the COLD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olitical policy caused the Cold War to conti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14 - 19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id WWI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I and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0"/>
            <a:ext cx="205740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fects of the War and the COLD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Fact Extravaganza P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fact extravaganza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0"/>
            <a:ext cx="8458200" cy="3352680"/>
          </a:xfrm>
          <a:prstGeom prst="wedgeRectCallout">
            <a:avLst>
              <a:gd name="adj1" fmla="val -16629"/>
              <a:gd name="adj2" fmla="val -13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US and The Soviet Un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re trying to create mor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apons than the other had.  The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re doing this because they thought th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hichever country had the most weap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ould have the most pow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"/>
            <a:ext cx="7162560" cy="1937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Cold War there was an Arms Race. 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y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133720"/>
            <a:ext cx="7162560" cy="3429000"/>
          </a:xfrm>
          <a:prstGeom prst="wedgeRectCallout">
            <a:avLst>
              <a:gd name="adj1" fmla="val -21231"/>
              <a:gd name="adj2" fmla="val -1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pe – May 7, 19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ia – September 2, 19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"/>
            <a:ext cx="7086600" cy="157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s the Final Surrender of WWII in Eur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s the Final Surrender of WWII in A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as the first war that the Russian army los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ndicated the beginning of the decline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 ar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Battle of Stalingrad so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304920"/>
            <a:ext cx="8153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28600"/>
            <a:ext cx="769644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e explain the Treaty of Versail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it d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it crea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ntry did it affect the MOST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t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leader of Germany after WWI ended through the end of WWI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905120"/>
            <a:ext cx="7162920" cy="1828800"/>
          </a:xfrm>
          <a:prstGeom prst="wedgeRectCallout">
            <a:avLst>
              <a:gd name="adj1" fmla="val -21231"/>
              <a:gd name="adj2" fmla="val -357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re was 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ual figh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cold war called a “COLD”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the Ural Mountains locate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523880"/>
            <a:ext cx="7162920" cy="3962520"/>
          </a:xfrm>
          <a:prstGeom prst="wedgeRectCallout">
            <a:avLst>
              <a:gd name="adj1" fmla="val -21231"/>
              <a:gd name="adj2" fmla="val 1041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hannel Tunn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word CHUNNEL stan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of the Japanese atta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Pearl Harb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14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id the United States get involved in WWI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19106"/>
              <a:gd name="adj2" fmla="val 17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viet Union and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wo countries were MOST involed in the COLD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is Europe connected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8-12-04T14:05:36Z</dcterms:modified>
  <cp:revision>7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